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4CE-EA7D-4C3E-AF4D-8BD285EA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79B-CD06-4721-95D1-EECFAB9E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4197-C0C1-4D54-BFF8-134AE4AE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B150-858B-487F-92B8-C30A09E5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AD64-7CE1-4FCD-81EC-B6E00A89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DC3C-CF1C-433F-8765-D24FF94A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C31-0EAE-48B4-B53C-B4A1F88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67A-4B2A-423F-A15A-8F293EFB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7942-6023-463D-AEB9-1303718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DC1-B7FC-4C02-A691-6A49AC03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603-226D-4D31-8768-A221A7BE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7EA1-57DE-4FA0-B175-8DE000C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C382-EC0E-4A0E-A8DF-623C07923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 4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Sophia (Anna) Pasaj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213372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228600"/>
            <a:ext cx="2041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things I do to stay heal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h schlafe 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ügend für meine Gesund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esse viel Obst und Gemü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jogge jede morgen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1819080" cy="161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5800" y="4419720"/>
            <a:ext cx="2481120" cy="197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00600" y="4267080"/>
            <a:ext cx="204804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pprove of one thing someone else do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nicht gut dass du, vermeide die Son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2808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50000">
              <a:srgbClr val="ff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ve of one thing someone els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prima dass du, bist in der Softball Mannschaf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3200400"/>
            <a:ext cx="3490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 one thing you may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ill viel Gymnastic machen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34120" y="3200400"/>
            <a:ext cx="2209680" cy="160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600200" y="3048120"/>
            <a:ext cx="22096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ne thing you may not do and give a reason why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Alcohol trinken, denn das ist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1758960" cy="2438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581280" y="3657600"/>
            <a:ext cx="16639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5:38Z</dcterms:created>
  <dc:creator>CUSD220</dc:creator>
  <dc:description/>
  <dc:language>en-US</dc:language>
  <cp:lastModifiedBy>CUSD220</cp:lastModifiedBy>
  <dcterms:modified xsi:type="dcterms:W3CDTF">2012-03-02T17:58:17Z</dcterms:modified>
  <cp:revision>4</cp:revision>
  <dc:subject/>
  <dc:title>Kapital 4 Project</dc:title>
</cp:coreProperties>
</file>